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0EA-7EA6-4E7D-9ED7-FFC267E4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6E3-6348-4D7C-8109-90994C0E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E7A2D-6F71-47D8-B789-90E525FD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91505-88A6-41D2-B5D2-92253C48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D6301-EF13-4854-B027-333713C4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B57E0-8CCA-49B2-9BED-B006C38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8F0D2-2DF6-4F25-B851-4318BC0A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8DD47-1D35-4A04-8D8F-DB771F7C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166D8-C7DA-4880-A41F-42A5B6AC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5E6A1-3403-47D8-9CAF-F3FFE612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80408-F50E-4AED-A6DB-7A9A3D7D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B7819-914C-402E-A507-F68AD5EF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8D0-3A52-4969-A1C3-7BA585F4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C20FD-926C-42E2-B16D-118E1F0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4AE4F-90DC-4531-A6A4-61AF94D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3C0A0-E1AB-4B8A-AF2D-AE3DA2C2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253E5-F937-426C-8A62-4D51935E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F4C42-6006-475B-B01F-68369C1E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350BB-8C05-4756-BFE0-A165AD3B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A41F8-B7CA-4677-885A-C2A5032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137A8-658C-4975-9977-3940638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FF978-BBCC-467E-ADF4-EDFBB045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07B19-2911-43EA-80A2-6E72EE35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475-A034-409B-AA1E-58C9CCC1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E9BAC-E4F8-4186-8184-8EE16CAF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BBDA4-77F0-4D60-8E03-15AE29A4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86052-9991-4459-BAFD-85A7A6D2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E5914-324B-4EC1-B556-A43A802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42E9D-65F0-427E-A414-D32C24E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19DF2-CCC9-48B5-967D-4FEE83B0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783D8-B843-4C7F-B216-F7F04E9E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2BEEF-F6FD-4A0C-B044-2A7B84C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DF9EA-495B-4296-A263-4F6CFC9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9E148-170B-4B9F-833A-63C3706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C4AF-7639-4769-8BDE-6ACF4127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9B0E3-30C8-4F7A-8488-450820F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2FA0D-401E-4444-AF6B-1C0E80C7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9EFCE-13DF-4A16-BC4A-83CA655F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409B3-D763-45A2-8E77-4FA72B92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A28CD-840A-423C-99C9-D47CBF2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F7799-23BA-4975-BBD6-E21A4E90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B5C77-C6E2-4CB9-A0BC-29B519A2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A5780-A1AE-45EE-8410-656AB67E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3B754-E0B8-4EC9-A6A1-FF4E475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A323A-6F87-4128-8F8A-553B3A1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71A0-F232-4000-9D9A-19440FD3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C4C22-0753-451C-8BBA-F81AC533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A0848-5501-4EEB-9A4F-2AA4212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E2132-01F4-4666-9B0F-070309BB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C0B45-65EF-4BB3-9072-1D11904A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73F32-3950-4EAA-8125-C7710F11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BF863-B5DD-4942-806F-A740CB89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D53F1-5489-478D-ADD6-FEF0EDFA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40E31-5808-4A29-B8D5-0AD1A357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B5DA8-C4DB-4081-94AD-F5D5D23A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FBE76-28D0-46DF-9694-CEE90644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A5F7-22DF-472D-BB2F-14EBD390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B3C50-9275-4DC8-BC7F-A6C3E9B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ACD59-A9C4-4AB8-B3F2-D04AED9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A3DC8-7C7A-4547-A2C3-B019425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8882B-5BF1-4A45-B3AF-5CB9827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D336C-F3ED-4D71-87C9-7AC57F54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CA67E-2233-4F10-88A2-95F225CC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A3933-6257-4882-B9A7-DCC519EE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11C46-BF39-4C61-A2A4-8088B487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7A1C0-D90E-4FF6-B8DC-B663E220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68678-A664-4BD5-A152-8EC24C9F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CD11-853E-424E-88AE-0E36D1C3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EA86D-6F35-4E3E-BB36-30C3001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A6B9A-53DE-48A6-B157-3181B21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2471A-3C67-4214-A2D4-9CAAF622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A839C-306E-4B78-A9EC-51E98FA7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1C50C-D5A2-430E-9C72-91F94DB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C0048-A8F3-49E7-A3C5-BF79E54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3F5BD-91F8-43FC-9104-1516BC56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EBC6E-1304-41EC-998B-72C36DC5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86F96-8568-4BC7-A8BB-470FF638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C70F9-F20B-4890-A711-F67E3053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861-C592-4FED-9531-67979DA9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EACF1-FD4C-4D47-86E1-4171B411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3670F-5388-40CD-BF54-D84F807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5C586-2B89-41E8-A8CD-BF24F8D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3F7E9-59BA-496E-A4CC-2582979E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605A1-25B1-4AE5-BBF1-DC4A5CF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A0A2F-E8F7-4840-BE1F-A035212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358B2-E1CB-484A-B3D3-B3FA841E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7D4AC-4F54-4F3B-96C5-602ABF8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4DB2A-B67E-4530-91DD-2DB98207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BD437-4899-4CD7-8913-E6DAD74B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B4F-B653-4799-9E69-A280C22C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8FB27-2BB1-4BE6-A086-64808274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8CAB0-4723-4496-9932-3CE3098D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A0554-BA62-4B9F-9A3F-D4847071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FA2F7-332C-4614-9D8B-F2FC99CB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4763C-9081-445B-A7B7-E4AC5378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6582F-EF18-4A49-A25E-CE6AECBA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B195E-664A-4983-AF55-F83BA309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6216C-8DF6-4F45-932E-7ED35B6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335A4-88BB-4406-9DB9-C5E7F043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78C90-2317-4A3E-BD0F-9304DB4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E964-5015-4780-AC3D-2B093F0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EB411-C4E2-4F63-BC77-51439FDD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064BA-DDDD-4D4F-9DEE-526AC540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B9BF5-29DD-434C-8709-BD47079C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DE90F-B95D-4333-BA58-684B3434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F4561-71B0-4EAE-ADC7-8A1CEBF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FB1F0-6A62-4EEC-8E22-7A057148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A47F1-8564-4C16-9495-51D19DB7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16542-DE78-440C-9559-029E88B9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58CC6-A4E8-43DC-9C7D-F44920AC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8A4A4-7979-4633-A498-036E5DA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F83-4905-4F74-8AE3-D07DF4FE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ED36-6E96-4C46-91FB-6850AA9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12DC2-DC7C-4E05-A5AE-60EF6BC8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10943-0216-4B62-81E9-248DC23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743F7-FCD1-4A7B-91A8-D12F08A3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B0964-7577-47F3-92D8-C40D3D82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800CE-945D-4309-A5BB-B08561B3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7DF4B-77C2-4E95-AFCA-D8AB31E9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48D0A-0F5D-48B4-9A26-9750F55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046B6-BBD3-44E6-8FCB-33CFEAFD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A8A73-1CB5-4057-8604-96F6089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41F18-2BC4-42DF-B51E-CC20F633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8DEF-3E87-4253-AB3D-4A910129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6FC98-22EC-4EE4-80DB-E5F4E04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A3C1E-F2A4-433E-B202-F3313B8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66726-1CF8-4A60-B953-43C8FE1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7500F-D860-4363-B108-DBE60D5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7BE10-F15A-4281-AA6E-ED9695D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3FD03-0827-4288-89A7-1E47A738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5483A-617D-487A-9D24-63A2B8F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471A31-899C-4E29-B277-7BED8C30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FA15D-05EC-46BA-A8F6-1282EADC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A937D-0C0C-4FFB-9808-F47D5196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9C14-1C2A-48C4-B255-4DE22DD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6CE3C-CCFE-4B91-8261-113561CE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9404C-0C59-4E6C-8B51-CCB9FE4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829B5E-B83F-4B2E-B676-C0933694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DF8722-518C-4047-B96F-7670DD5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ED7400-ED54-48FF-92BA-62DDAAC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89664-6B73-4001-8535-346619F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B874D-5340-473E-ACFC-A7978B2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700BE-B4FB-4C81-AF0E-AD5DE6E9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44CFF-98D9-4CEE-9412-31B7C63F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46AFF-A437-4FA1-A14B-9D3742B0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C2F9-312A-4C27-9701-2D6C7B6C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B1562-FEE5-4114-B512-7F2ABDDA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7F154-733D-4E90-A5B7-E0F08ED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714DF-86FE-46C9-AB14-7C1D502B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239FD-2692-43E3-B93B-668A86C0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EA40E-5487-4823-BBF1-2A79763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D6D8A5-FE95-4792-9D51-3C0F803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BEF26-C27D-49A4-A461-DBBF621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DFEE72-1E50-4D26-BF54-C2FBD2A7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9F8E4-C502-46F3-A7C6-31D2B1A5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CC94C-2CD6-4011-A78D-AEF15A87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E6C-B79F-4B67-BAB0-1B72D167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DC725-AEA0-4FDB-BDF3-AE068269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953BC2-1B87-4FF2-B846-52D22E13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4B221-FF07-4C6D-BC5D-B09AE18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48BCF-A56B-493B-990C-729F4418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84ECB-8945-4EC3-808C-6D62E474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79AB8-4F92-44FA-96DB-F635CE0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327C0-7C8D-48DB-86DA-88627BE0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DC5F65-8C66-478E-8D80-7A2204F4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0AAF6C-B3BC-4987-8974-E65D9A44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2CC68-AC46-404E-B74F-F7B94D34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44E3-3E7C-4C4E-AAF6-96909279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35649-30D6-4576-B626-E941C258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67AB7-671F-4A2A-B4A2-F3C4AF5C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88A15-1FA2-49C2-A4C6-52F5E639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5C36-C730-4FB4-9FBF-3A2004C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F7F0-E0DF-402C-A475-690D693D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4002-0062-4F99-8D9F-FE956EE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77CA-F6A5-4491-91BD-F993661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929-F34A-4CD5-8B53-C479E58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039B-4A24-4B10-A624-CB1ADD98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1984-34F5-46DD-8169-77387EB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AEB3-8E5F-4777-BA61-7E1CAB0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797C-0B5D-4A08-A852-35A541F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62E8-8C43-4087-BEAC-86295CA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F493-329D-4425-8C36-6FEDCDCD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8BDC-8A02-48D5-96FD-C7D3B45F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6446-7237-4472-A95C-9116F3FB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AA08-ECC6-4E77-8899-5605DD4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8233-DCEE-4462-9D18-60719ACA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FD1-6237-42F3-A07E-9356551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1ED0-CC90-4DAE-BD62-6B1A14C9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C28C-E858-43EB-B2F0-5EF1ACD3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381E-9224-4FB0-85E9-605153D8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4EB0-1BB6-4C90-97D5-85A7B21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8F42-D19D-4390-98C1-A1AAF9B1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4DF4-B0A9-41EC-9B47-0FC89377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F0E9-2780-43B0-916E-384417E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E09D-E1E6-459E-85B4-97BB1CFB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70BC-16A4-4A2B-BC2D-4F8A2200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15B4-C3C5-43D5-8AA7-BD03160E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0CA-2EAB-4026-A63D-02B226A4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57C1-2228-43E5-97EA-AE62304B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3917-CDEA-4FCC-84C7-234BA26A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A2C2-21EA-4AD3-BAE9-3203EA22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D9D22-75BE-41D4-9BC2-F99930D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F62B-9CF7-4A6E-B245-9E06CC05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9486-98DE-4838-B382-E07AD80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107F-33CE-4D13-B87F-CFB0CFE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4E06-D122-476B-8070-BA7D3C4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736A6-EE55-498E-B136-93E0DAA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6A50-9817-4E29-8145-7D47585A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541-B834-45A4-A3A6-72BA5FB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3A5A-AED0-476F-819F-521E6203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BE3B8-7DA9-4F18-968D-15D28565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FF088-6743-4135-9C67-35001761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4553-25FE-4E57-BAB0-23F94D39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6CCE-DF39-43DA-A3C6-31A1B44C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71D3D-D4AA-4D9A-8EC6-7A9F608D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7CE9-0A15-466C-9983-BC2FA16D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4DCE-8685-4AD5-9BBE-566DF90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BFCB-F7B5-4105-80FA-47F56069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D23A-EFF3-448A-93D2-A40E9A0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E26-487E-4B19-BC1B-F830317E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A509F-9216-4E2D-A52E-CB35DB19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58D20-0ACD-4E2E-8C23-B6C139DD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2468-6970-47EC-9E3A-12AD328C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A96E8-6E9C-4ACC-BC1E-20D90D53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7A815-47BB-4913-9192-7521CC41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FD888-6EF5-4D2A-BD57-0DC4F39F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7596-17D7-41D8-95BA-7D694BFE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E471-3241-424B-9602-7E1191F4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FEE15-6C40-4AFF-A53C-E9203FD8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6A30-7A0A-41D5-BAF4-65F8F0F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A06-2F52-4F7E-994A-F25DEBB4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242A-C62A-4AE0-A9D5-80D7B28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07E3F-DE2C-438D-8A66-43EAA102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B3EF5-B90A-4BF2-9FE1-96FA62E5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9F0F-5385-4CF6-A5E6-0884C6C4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80E1-43A9-42BC-8F81-2363259B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21F37-0C0F-4521-8CD6-5C2CF347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DB0E6-9EAD-4C76-BB35-89CCF9AB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E1C3-AB07-4A66-9629-844178B4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1CB2F-26ED-42A2-A0F2-8DBE259C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2F63E-2867-4DC7-BA9D-1A77F90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EB8-D198-4A03-9327-832DACD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91856-A864-4AB8-877A-2E2059F4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F106-AE68-4E6D-BD7E-CAFBADE2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CE22-C175-4250-99EE-91F7E8B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F0687-AE15-4F61-A0A0-AEA0273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0DA7-4934-407D-80DD-02CE8CFE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9CCC6-C8D2-4709-9CF7-D185EC40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ACD2B-6D67-4528-A30E-989CD3E2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58E82-1D45-474A-97AE-42688D4E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330E6-85C2-404D-A9DC-86F377F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C9282-CFFA-4346-9C5A-053197C7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51C6-788F-45AC-95E9-2080C5101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F9B-BACD-400C-8654-A5ACA68C28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A0E7-4116-42D9-86FA-A7883FD84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0B3E-AA6A-479A-81F0-4CA3970F5D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995-F4BB-4AB2-A2DF-AEAA064D4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657-9B67-4141-B1FC-437AF280F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401-1521-4863-8C4D-9E858E14F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A16-ED0F-4D11-9B0E-8DFB27E47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2D2F-654A-4CC3-96A6-613B7FC412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9A6-9E2B-4639-B610-4FC80BC83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89B-1641-48C0-9EA7-45BAF1007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F10B-D5EC-4CCF-987C-F62AD6013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A1DF-0193-4633-B08C-5330174CF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3D8-548D-4601-B45E-5007A397BE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3AD2-38F4-4525-ABF4-0D5EE365E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100D-5D16-4525-9586-6AE57D5D4A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5FC-8AB7-45D7-B120-F18EC81F8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4A13-C082-4AB4-804A-3804AC489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9C79-770F-4641-98C3-609491BF3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B305-F69B-4941-B495-268B2EEB28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CE41-DED5-44C4-8F40-155B17D60B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E04-1503-4014-B061-9BE1A670FC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70E4-39C0-46F0-8A53-D429B91671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EFF0-2672-4DFF-A035-3204B48846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F470-2E6A-4479-B02E-984E508E2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7D62-22F8-4E95-AEA7-B408BF645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884-F84F-4637-9FEA-6A941CFCA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AA4-E820-49EE-8527-9AD02A3A7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9370-D6AC-4FAC-83C6-083F98221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BDB-F47D-47ED-96DC-29A140E8A6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896F-3E40-4608-8688-783C92F005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2F4F-79FC-4A1A-9547-469B7417F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D247-7F62-49F4-83F3-3D1DEB9EC6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8A0-4A48-4167-A085-C876AA2C64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BF2-19E6-474C-B268-39E26D6A41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7D36-D522-4A9A-A6D0-5750813619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1F7C-4A9B-4773-A71D-B8D1CB345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A8EE-01CA-483C-8E0B-D0580D36E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2B0-7C27-4169-BA62-EF6DA92A8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8FE-FA7A-4F23-96A1-3F300D0514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957480" y="3133800"/>
            <a:ext cx="1229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461880" y="1380960"/>
            <a:ext cx="8220240" cy="40960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4357800" y="183204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5643720" y="4143240"/>
            <a:ext cx="1500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6500880" y="4643280"/>
            <a:ext cx="17143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409680" y="1776240"/>
            <a:ext cx="8324640" cy="330552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7421400" y="1751040"/>
            <a:ext cx="1143000" cy="442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963720" y="2700360"/>
            <a:ext cx="114300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071720" y="3643200"/>
            <a:ext cx="1357200" cy="392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"/>
          <p:cNvSpPr/>
          <p:nvPr/>
        </p:nvSpPr>
        <p:spPr>
          <a:xfrm>
            <a:off x="5322960" y="4129200"/>
            <a:ext cx="1535040" cy="38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43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395280" y="1109520"/>
            <a:ext cx="83534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533520" y="1104840"/>
            <a:ext cx="8076960" cy="46483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71720" y="1143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71720" y="2000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7172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71720" y="3929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71720" y="4857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762120" y="1138320"/>
            <a:ext cx="7619760" cy="45813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285920" y="1143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285920" y="2071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1285920" y="3071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1285920" y="3929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285920" y="4857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248320" cy="3191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2"/>
          <a:stretch/>
        </p:blipFill>
        <p:spPr>
          <a:xfrm>
            <a:off x="642960" y="3929040"/>
            <a:ext cx="8153280" cy="27622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214308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8072280" y="4000680"/>
            <a:ext cx="500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4572000" y="5786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47840" y="1571760"/>
            <a:ext cx="8248320" cy="371448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421488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178596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42800" y="1300320"/>
            <a:ext cx="82584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471600" y="1095480"/>
            <a:ext cx="8200800" cy="466704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4429080" y="3000240"/>
            <a:ext cx="14288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1928880" y="3929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4643280" y="4857840"/>
            <a:ext cx="1714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7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